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.wmf" ContentType="image/x-wmf"/>
  <Override PartName="/ppt/media/image26.wmf" ContentType="image/x-wmf"/>
  <Override PartName="/ppt/media/image4.wmf" ContentType="image/x-wmf"/>
  <Override PartName="/ppt/media/image27.wmf" ContentType="image/x-wmf"/>
  <Override PartName="/ppt/media/image5.wmf" ContentType="image/x-wmf"/>
  <Override PartName="/ppt/media/image22.gif" ContentType="image/gif"/>
  <Override PartName="/ppt/media/image9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13.png" ContentType="image/png"/>
  <Override PartName="/ppt/media/image30.png" ContentType="image/png"/>
  <Override PartName="/ppt/media/image25.wmf" ContentType="image/x-wmf"/>
  <Override PartName="/ppt/media/image24.wmf" ContentType="image/x-wmf"/>
  <Override PartName="/ppt/media/image28.png" ContentType="image/png"/>
  <Override PartName="/ppt/media/image1.wmf" ContentType="image/x-wmf"/>
  <Override PartName="/ppt/media/image10.wmf" ContentType="image/x-wmf"/>
  <Override PartName="/ppt/media/image14.gif" ContentType="image/gif"/>
  <Override PartName="/ppt/media/image17.png" ContentType="image/png"/>
  <Override PartName="/ppt/media/image16.png" ContentType="image/png"/>
  <Override PartName="/ppt/media/image19.png" ContentType="image/png"/>
  <Override PartName="/ppt/media/image2.jpeg" ContentType="image/jpeg"/>
  <Override PartName="/ppt/media/image18.wmf" ContentType="image/x-wmf"/>
  <Override PartName="/ppt/media/image20.png" ContentType="image/png"/>
  <Override PartName="/ppt/media/image21.gif" ContentType="image/gif"/>
  <Override PartName="/ppt/media/image23.wmf" ContentType="image/x-wmf"/>
  <Override PartName="/ppt/media/image29.png" ContentType="image/png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A065-F98B-42E0-B900-FA514709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C681-CFDE-4DC1-8BB3-EFE13EB1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8000-EFAE-4BAC-8503-E3F3848E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0110-A8FA-4E74-9016-1E6ED616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0A47-C344-4ED1-817D-1C498E78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9355-8B9F-4515-B9EE-80404174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2DF1-873A-4EC3-A579-102A0834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A4D9-5A76-48D5-9EAD-2DF6D635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BB72-2E3C-46E4-AA90-5076EB6F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3F00-FDC4-4183-8AF6-5A85DBC5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7E65-2FAC-49E8-9A42-533A1FF0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25C7-3B60-47C7-B2BC-FA23D0BB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766B-B3E6-4CCE-819E-00BD60DDDCC4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Energy Flow Through an Ecosystem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od Chains, Food Webs, Energy Pyramid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 spd="slow" advTm="2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Consumers that eat producers to get energy: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re 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first order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primary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consum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re 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herbivore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(plant-eaters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715000" y="3733920"/>
            <a:ext cx="2743200" cy="251136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84872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Most of the energy the primary consumer gets from the producer is used by the consumer.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149560" cy="21715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ome of the energy moves into the atmosphere as heat.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62520" y="4191120"/>
            <a:ext cx="2090520" cy="19350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9246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ome energy in the primary consumer is not lost to the atmosphere or used by the consumer itself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his energy is available for another consumer.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 spd="slow" advTm="20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A consumer that eats another consumer for energy: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s called a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secondary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second order consum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be a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carnivor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or a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herbivor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be a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predat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be a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scaveng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855800"/>
            <a:ext cx="4038480" cy="401328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Most of the energy the secondary consumer gets from the primary consumer is used by the secondary consumer.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114800" y="4343400"/>
            <a:ext cx="762120" cy="14382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678204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ome of the energy is lost as heat, but some energy is stored and can passed on to another consumer.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791320" y="3505320"/>
            <a:ext cx="252072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A consumer that eats a consumer that already ate a consumer: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384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s called a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third order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tertiary consum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be a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carnivor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or a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herbivor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be a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predat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be a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scaveng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Consumers that eat producers &amp; other consumers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80060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re called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omnivor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mnivores eat plants and anim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4038480" cy="421956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Consumers that hunt &amp; kill other consumers are called predators.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They animals that are hunted &amp; killed are called </a:t>
            </a:r>
            <a:r>
              <a:rPr b="0" lang="en-US" sz="4000" spc="-1" strike="noStrike" u="sng">
                <a:solidFill>
                  <a:srgbClr val="000066"/>
                </a:solidFill>
                <a:uFillTx/>
                <a:latin typeface="Arial"/>
              </a:rPr>
              <a:t>prey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619440" y="3476520"/>
            <a:ext cx="1905120" cy="77148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3317760" cy="3352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9880" y="1143000"/>
            <a:ext cx="5029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Begins with the SUN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Photosynthesis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5181480"/>
            <a:ext cx="8381880" cy="1203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6CO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+ 6H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 + sunlight &amp; chlorophyll </a:t>
            </a:r>
            <a:r>
              <a:rPr b="0" lang="en-US" sz="32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6H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+ 6O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 spd="slow" advTm="20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65760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onsumers that eat other consumers that have already died are called </a:t>
            </a: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scavengers.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581280" y="914400"/>
            <a:ext cx="1990800" cy="19908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The transfer of energy from sun to producer to primary consumer to secondary consumer to tertiary consumer can be shown in a </a:t>
            </a:r>
            <a:r>
              <a:rPr b="1" lang="en-US" sz="4000" spc="-1" strike="noStrike" u="sng">
                <a:solidFill>
                  <a:srgbClr val="000066"/>
                </a:solidFill>
                <a:uFillTx/>
                <a:latin typeface="Arial"/>
              </a:rPr>
              <a:t>FOOD CHAIN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8600" y="2666880"/>
            <a:ext cx="1676520" cy="1675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4876920"/>
            <a:ext cx="2106720" cy="1644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505320" y="5562720"/>
            <a:ext cx="1206360" cy="819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791320" y="5257800"/>
            <a:ext cx="1363680" cy="1190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086600" y="3429000"/>
            <a:ext cx="1676520" cy="1546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rot="4002600">
            <a:off x="914040" y="4343400"/>
            <a:ext cx="762120" cy="304920"/>
          </a:xfrm>
          <a:custGeom>
            <a:avLst/>
            <a:gdLst>
              <a:gd name="textAreaLeft" fmla="*/ 95040 w 762120"/>
              <a:gd name="textAreaRight" fmla="*/ 667080 w 7621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040600">
            <a:off x="2590920" y="5410080"/>
            <a:ext cx="761760" cy="304920"/>
          </a:xfrm>
          <a:custGeom>
            <a:avLst/>
            <a:gdLst>
              <a:gd name="textAreaLeft" fmla="*/ 95040 w 761760"/>
              <a:gd name="textAreaRight" fmla="*/ 666720 w 761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21212400">
            <a:off x="4800240" y="5867280"/>
            <a:ext cx="762120" cy="304920"/>
          </a:xfrm>
          <a:custGeom>
            <a:avLst/>
            <a:gdLst>
              <a:gd name="textAreaLeft" fmla="*/ 95040 w 762120"/>
              <a:gd name="textAreaRight" fmla="*/ 667080 w 7621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9031400">
            <a:off x="7162560" y="5257800"/>
            <a:ext cx="761760" cy="304920"/>
          </a:xfrm>
          <a:custGeom>
            <a:avLst/>
            <a:gdLst>
              <a:gd name="textAreaLeft" fmla="*/ 95040 w 761760"/>
              <a:gd name="textAreaRight" fmla="*/ 666720 w 761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 spd="slow" advTm="20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Another way of showing the transfer of energy in an ecosystem is the</a:t>
            </a:r>
            <a:br>
              <a:rPr sz="4000"/>
            </a:br>
            <a:r>
              <a:rPr b="1" lang="en-US" sz="4000" spc="-1" strike="noStrike" u="sng">
                <a:solidFill>
                  <a:srgbClr val="000066"/>
                </a:solidFill>
                <a:uFillTx/>
                <a:latin typeface="Arial"/>
              </a:rPr>
              <a:t>ENERGY PYRAMID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 spd="slow" advTm="20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Energy pyramids show 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at the amount of available energy decreases down the food cha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t takes a large number of producers to support a small number of primary consum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t takes a large number of primary consumers to support a small number of secondary consum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3262320" cy="30038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2120" y="142920"/>
            <a:ext cx="7543800" cy="65070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Food Webs: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re interconnected food chai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y show the feeding relationships in an ecosyste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191120" cy="400536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880" y="3962520"/>
            <a:ext cx="838224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chemical reaction by which green plants use water and carbon dioxide and light from the sun to make glucose.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NERGY is stored in glucose; glucose is stored as starch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5257800" cy="313668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276720"/>
            <a:ext cx="7696080" cy="28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Organisms that can make glucose during photosynthesis are called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PRODUCERS</a:t>
            </a: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1604880" cy="1868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971800" y="304920"/>
            <a:ext cx="2849400" cy="2135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477120" y="1371600"/>
            <a:ext cx="2101680" cy="177156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733920"/>
            <a:ext cx="80769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Producers use most of the energy they make for themselves.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838080"/>
            <a:ext cx="2119320" cy="279108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365724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Producers use cellular respiration to supply the energy they need to live.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4667400" cy="34290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581280"/>
            <a:ext cx="8229600" cy="26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66"/>
                </a:solidFill>
                <a:uFillTx/>
                <a:latin typeface="Arial"/>
              </a:rPr>
              <a:t>CELLULAR RESPIRATION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 is the chemical reaction that releases the energy in glucose.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946520"/>
            <a:ext cx="8229600" cy="64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6O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+ C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--&gt;  6H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 + 6CO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+ energy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 spd="slow" advTm="2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925040" cy="30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he energy that is not used by producers can be passed on to organisms that cannot make their own energy.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2149560" cy="2952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76720" y="1676520"/>
            <a:ext cx="2209680" cy="914400"/>
          </a:xfrm>
          <a:custGeom>
            <a:avLst/>
            <a:gdLst>
              <a:gd name="textAreaLeft" fmla="*/ 345240 w 2209680"/>
              <a:gd name="textAreaRight" fmla="*/ 1933560 w 220968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400800" y="457200"/>
            <a:ext cx="1816200" cy="26845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4038480"/>
            <a:ext cx="7925040" cy="19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Organisms that cannot make their own energy are called </a:t>
            </a:r>
            <a:r>
              <a:rPr b="1" lang="en-US" sz="4000" spc="-1" strike="noStrike" u="sng">
                <a:solidFill>
                  <a:srgbClr val="000066"/>
                </a:solidFill>
                <a:uFillTx/>
                <a:latin typeface="Arial"/>
              </a:rPr>
              <a:t>CONSUMERS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1784520" cy="1814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429000" y="380880"/>
            <a:ext cx="1905120" cy="1495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791320" y="1752480"/>
            <a:ext cx="2695320" cy="13986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23:23:05Z</dcterms:created>
  <dc:creator>Mary Poarch</dc:creator>
  <dc:description/>
  <dc:language>en-US</dc:language>
  <cp:lastModifiedBy>Mary Poarch</cp:lastModifiedBy>
  <dcterms:modified xsi:type="dcterms:W3CDTF">2005-04-29T10:31:37Z</dcterms:modified>
  <cp:revision>59</cp:revision>
  <dc:subject/>
  <dc:title>Energy Flow Through an Eco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04786452</vt:r8>
  </property>
  <property fmtid="{D5CDD505-2E9C-101B-9397-08002B2CF9AE}" pid="3" name="_AuthorEmail">
    <vt:lpwstr>mpoarch@ahisd.net</vt:lpwstr>
  </property>
  <property fmtid="{D5CDD505-2E9C-101B-9397-08002B2CF9AE}" pid="4" name="_AuthorEmailDisplayName">
    <vt:lpwstr>Mary Poarch</vt:lpwstr>
  </property>
  <property fmtid="{D5CDD505-2E9C-101B-9397-08002B2CF9AE}" pid="5" name="_EmailSubject">
    <vt:lpwstr/>
  </property>
  <property fmtid="{D5CDD505-2E9C-101B-9397-08002B2CF9AE}" pid="6" name="_ReviewingToolsShownOnce">
    <vt:lpwstr/>
  </property>
</Properties>
</file>